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D9685E-7F0D-4715-A587-1F47CB63C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has clearly improved among QSEs (except windfarms).   Is this really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January we had 28 QSEs (non-wind) but in July we have 3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necdotally, several QSEs report enhanced controls and operator training that should provide benefits all the time.  Some of these are just now being implement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724280"/>
            <a:ext cx="5607000" cy="3875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good, improvement is evident.  Of course, we expect it to fall back somewhat under lighter loa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s frequency average is still clearly not at the level experienced prior to Single Control Area Opns.  In 2000, things had already started to slip somew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to ERCOT is highest during certain intervals that typically coincides with large start up and shut down ramping periods.  We appear to have improved this during July, but again this is high 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PRR results in re-appearance of large frequency deviations during predictable portions of the day, ERCOT Operations is likely to again request ADDITIONAL REGULATION SERVICES during these perio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tax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some definitions to accurately scope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tart up time precisely?  Shut down time?  Are we talking about single intervals or several hours?  Is it limited to once a day?  From QSEPM discussion, it sounds like hours with a 50% change (before and after) will be involved – this is not def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 calculations need to be reviewed, basically we need to create a new ramp and perform 4-second checks to come up with a new SCE.   This again will have to be done manually for requested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t really help?  If the actual ramp is different, the QSE score could be worse sti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85C1-115B-47D9-A5CE-3B000DA17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0198-39F4-4ED3-B4FC-BF850113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296A7-49C6-4FB0-96B4-872F6655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0E3E-0C07-49EE-9150-D0E89FA6B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D5281-649A-4B10-8B2D-766704BEC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CF48C-426C-4787-88C5-C95B61C17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8AA8F-44B7-4F3A-9241-1AB9ABB0F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29E2D-8F68-4789-A193-B321D9A92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E1EDF-F399-42FF-8E58-D36347C70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A5165-AE5C-40C9-9B4E-A7068547C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B92CF-5185-478E-81D3-B5332B83F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5925C-6CA3-4BA2-92B6-5CF96313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6B8C-FF54-471D-BDAE-BC776BC74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79C15-BA00-45A6-9696-0CFEC794B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5CE7-26F3-4D4E-901D-29ADE8EDF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F01DF-459A-404B-AD31-599821D80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1ED91-B3E8-491F-BE70-3BBC1D58A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EA17-E972-4099-93A7-7D36A5AD1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B41DE-26E2-4C77-A02F-A53064E0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9171B-324B-4A7F-8385-55B756408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432DA-7F2C-4B8C-8CC3-79755B01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A149-5BAF-45C5-A1ED-AD0109A94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2A68-E636-4853-A6F9-882510B3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3E24-E376-43A6-9C29-244D8FFF7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269C-D9CF-4811-8766-AFEB25B957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7F53-6797-42DA-85DC-6F525020A3A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RCOT Compliance</a:t>
            </a:r>
            <a:br>
              <a:rPr sz="4000"/>
            </a:br>
            <a:r>
              <a:rPr b="0" lang="en-US" sz="4000" spc="-1" strike="noStrike">
                <a:solidFill>
                  <a:srgbClr val="000000"/>
                </a:solidFill>
                <a:latin typeface="Verdana"/>
              </a:rPr>
              <a:t>PRR607 </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SE PRR525 10-Minute</a:t>
            </a:r>
            <a:br>
              <a:rPr sz="3400"/>
            </a:br>
            <a:r>
              <a:rPr b="0" lang="en-US" sz="3400" spc="-1" strike="noStrike">
                <a:solidFill>
                  <a:srgbClr val="000000"/>
                </a:solidFill>
                <a:latin typeface="Verdana"/>
              </a:rPr>
              <a:t>Interval Scoring</a:t>
            </a:r>
            <a:endParaRPr b="0" lang="en-US" sz="3400" spc="-1" strike="noStrike">
              <a:solidFill>
                <a:srgbClr val="000000"/>
              </a:solidFill>
              <a:latin typeface="Verdana"/>
            </a:endParaRPr>
          </a:p>
        </p:txBody>
      </p:sp>
      <p:pic>
        <p:nvPicPr>
          <p:cNvPr id="97"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25 Passing 10-Min Interval </a:t>
            </a:r>
            <a:br>
              <a:rPr sz="3400"/>
            </a:br>
            <a:r>
              <a:rPr b="0" lang="en-US" sz="3400" spc="-1" strike="noStrike">
                <a:solidFill>
                  <a:srgbClr val="000000"/>
                </a:solidFill>
                <a:latin typeface="Verdana"/>
              </a:rPr>
              <a:t>Percentage Trends</a:t>
            </a:r>
            <a:endParaRPr b="0" lang="en-US" sz="3400" spc="-1" strike="noStrike">
              <a:solidFill>
                <a:srgbClr val="000000"/>
              </a:solidFill>
              <a:latin typeface="Verdana"/>
            </a:endParaRPr>
          </a:p>
        </p:txBody>
      </p:sp>
      <p:pic>
        <p:nvPicPr>
          <p:cNvPr id="99"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s CPS1 Monthly Trend</a:t>
            </a:r>
            <a:endParaRPr b="0" lang="en-US" sz="3800" spc="-1" strike="noStrike">
              <a:solidFill>
                <a:srgbClr val="000000"/>
              </a:solidFill>
              <a:latin typeface="Verdana"/>
            </a:endParaRPr>
          </a:p>
        </p:txBody>
      </p:sp>
      <p:pic>
        <p:nvPicPr>
          <p:cNvPr id="101"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 CPS1 by Interval</a:t>
            </a:r>
            <a:endParaRPr b="0" lang="en-US" sz="3800" spc="-1" strike="noStrike">
              <a:solidFill>
                <a:srgbClr val="000000"/>
              </a:solidFill>
              <a:latin typeface="Verdana"/>
            </a:endParaRPr>
          </a:p>
        </p:txBody>
      </p:sp>
      <p:pic>
        <p:nvPicPr>
          <p:cNvPr id="105"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E Performance Scoring</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clusions are manually adjusted from scor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QSEs are scored; the number is increas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cessing exclusions proposed for PRR607 could prove complex and time consum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dditional FTE(s) will be reques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Ranger Woody</cp:lastModifiedBy>
  <dcterms:modified xsi:type="dcterms:W3CDTF">2006-08-11T16:29:42Z</dcterms:modified>
  <cp:revision>182</cp:revision>
  <dc:subject/>
  <dc:title>PRR 525 Compliance Analysis</dc:title>
</cp:coreProperties>
</file>